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391644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0800" y="167652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9164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0800" y="39164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6560" y="167652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9080" y="167652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391644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6560" y="391644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9080" y="391644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0800" y="167652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3600" y="153720"/>
            <a:ext cx="750564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0800" y="167652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39164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0800" y="167652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0800" y="391644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0800" y="167652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1644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52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22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黑体"/>
              </a:rPr>
              <a:t>章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Object Pascal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黑体"/>
              </a:rPr>
              <a:t>程序设计语言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80720" y="12193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0720" indent="-2707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要点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宋体"/>
                <a:ea typeface="宋体"/>
                <a:hlinkClick r:id="rId1" action="ppaction://hlinksldjump"/>
              </a:rPr>
              <a:t>2.1  基本字符和符号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宋体"/>
                <a:ea typeface="宋体"/>
                <a:hlinkClick r:id="rId2" action="ppaction://hlinksldjump"/>
              </a:rPr>
              <a:t>2.2  常量与变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宋体"/>
                <a:ea typeface="宋体"/>
                <a:hlinkClick r:id="rId3" action="ppaction://hlinksldjump"/>
              </a:rPr>
              <a:t>2.3  数据类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宋体"/>
                <a:ea typeface="宋体"/>
                <a:hlinkClick r:id="rId4" action="ppaction://hlinksldjump"/>
              </a:rPr>
              <a:t>2.4  运算符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宋体"/>
                <a:ea typeface="宋体"/>
                <a:hlinkClick r:id="rId5" action="ppaction://hlinksldjump"/>
              </a:rPr>
              <a:t>2.5  语句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宋体"/>
                <a:ea typeface="宋体"/>
                <a:hlinkClick r:id="rId6" action="ppaction://hlinksldjump"/>
              </a:rPr>
              <a:t>2.6  过程与函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3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数据类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集合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数组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记录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文件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类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类引用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接口类型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3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类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lph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创建一个数据结构时，首先要分配内存空间。分配的内存空间用于存储数据结构中的数据。使用指针可以使程序不必每次需要时都去分配，只要申请一次，其他过程或函数使用同一块内存空间时，只需使用该内存空间的地址即可。在运算上，指针变量与一般变量无区别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:=q;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要引用指针所指向的变量时，必须在指针后使用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^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运算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38200" y="1822320"/>
            <a:ext cx="419724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9560" indent="-2595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1" action="ppaction://hlinksldjump"/>
              </a:rPr>
              <a:t>2.4.1  算术运算符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-2595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2" action="ppaction://hlinksldjump"/>
              </a:rPr>
              <a:t>2.4.2  逻辑运算符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-2595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3" action="ppaction://hlinksldjump"/>
              </a:rPr>
              <a:t>2.4.3  关系运算符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-2595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4" action="ppaction://hlinksldjump"/>
              </a:rPr>
              <a:t>2.4.4  运算符的优先级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4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算术运算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算术运算符用于完成二元或一元算术运算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-2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-3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304920" y="1219320"/>
            <a:ext cx="8533800" cy="4952520"/>
            <a:chOff x="304920" y="1219320"/>
            <a:chExt cx="8533800" cy="4952520"/>
          </a:xfrm>
        </p:grpSpPr>
        <p:grpSp>
          <p:nvGrpSpPr>
            <p:cNvPr id="78" name=""/>
            <p:cNvGrpSpPr/>
            <p:nvPr/>
          </p:nvGrpSpPr>
          <p:grpSpPr>
            <a:xfrm>
              <a:off x="311760" y="1224000"/>
              <a:ext cx="8519040" cy="4942080"/>
              <a:chOff x="311760" y="1224000"/>
              <a:chExt cx="8519040" cy="494208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311760" y="1224000"/>
                <a:ext cx="1866960" cy="623520"/>
                <a:chOff x="311760" y="1224000"/>
                <a:chExt cx="1866960" cy="623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15440" y="1224000"/>
                  <a:ext cx="165924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11760" y="1224000"/>
                  <a:ext cx="1866960" cy="62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179080" y="1224000"/>
                <a:ext cx="2346120" cy="623520"/>
                <a:chOff x="2179080" y="1224000"/>
                <a:chExt cx="2346120" cy="623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282040" y="1224000"/>
                  <a:ext cx="213912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179080" y="1224000"/>
                  <a:ext cx="2346120" cy="62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25920" y="1224000"/>
                <a:ext cx="2259360" cy="623520"/>
                <a:chOff x="4525920" y="1224000"/>
                <a:chExt cx="2259360" cy="623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628880" y="1224000"/>
                  <a:ext cx="205236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数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25920" y="1224000"/>
                  <a:ext cx="2259360" cy="62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785640" y="1224000"/>
                <a:ext cx="2045160" cy="623520"/>
                <a:chOff x="6785640" y="1224000"/>
                <a:chExt cx="2045160" cy="6235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889320" y="1224000"/>
                  <a:ext cx="183744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结果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785640" y="1224000"/>
                  <a:ext cx="2045160" cy="62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11760" y="1847880"/>
                <a:ext cx="1866960" cy="767160"/>
                <a:chOff x="311760" y="1847880"/>
                <a:chExt cx="1866960" cy="767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15440" y="1847880"/>
                  <a:ext cx="1659240" cy="76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11760" y="1847880"/>
                  <a:ext cx="1866960" cy="76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179080" y="1847880"/>
                <a:ext cx="2346120" cy="767160"/>
                <a:chOff x="2179080" y="1847880"/>
                <a:chExt cx="2346120" cy="767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282040" y="1847880"/>
                  <a:ext cx="2139120" cy="76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加法运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179080" y="1847880"/>
                  <a:ext cx="2346120" cy="76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525920" y="1847880"/>
                <a:ext cx="2259360" cy="767160"/>
                <a:chOff x="4525920" y="1847880"/>
                <a:chExt cx="2259360" cy="767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628880" y="1847880"/>
                  <a:ext cx="2052360" cy="76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525920" y="1847880"/>
                  <a:ext cx="2259360" cy="76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85640" y="1847880"/>
                <a:ext cx="2045160" cy="767160"/>
                <a:chOff x="6785640" y="1847880"/>
                <a:chExt cx="2045160" cy="767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889320" y="1847880"/>
                  <a:ext cx="1837440" cy="76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85640" y="1847880"/>
                  <a:ext cx="2045160" cy="76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11760" y="2615760"/>
                <a:ext cx="1866960" cy="766800"/>
                <a:chOff x="311760" y="2615760"/>
                <a:chExt cx="1866960" cy="7668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15440" y="2615760"/>
                  <a:ext cx="165924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1760" y="2615760"/>
                  <a:ext cx="1866960" cy="76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179080" y="2615760"/>
                <a:ext cx="2346120" cy="766800"/>
                <a:chOff x="2179080" y="2615760"/>
                <a:chExt cx="2346120" cy="766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282040" y="2615760"/>
                  <a:ext cx="213912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减法运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179080" y="2615760"/>
                  <a:ext cx="2346120" cy="76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525920" y="2615760"/>
                <a:ext cx="2259360" cy="766800"/>
                <a:chOff x="4525920" y="2615760"/>
                <a:chExt cx="2259360" cy="7668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628880" y="2615760"/>
                  <a:ext cx="205236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525920" y="2615760"/>
                  <a:ext cx="2259360" cy="76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785640" y="2615760"/>
                <a:ext cx="2045160" cy="766800"/>
                <a:chOff x="6785640" y="2615760"/>
                <a:chExt cx="2045160" cy="7668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889320" y="2615760"/>
                  <a:ext cx="183744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785640" y="2615760"/>
                  <a:ext cx="2045160" cy="76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11760" y="3382920"/>
                <a:ext cx="1866960" cy="767160"/>
                <a:chOff x="311760" y="3382920"/>
                <a:chExt cx="1866960" cy="767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15440" y="3382920"/>
                  <a:ext cx="1659240" cy="76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11760" y="3382920"/>
                  <a:ext cx="1866960" cy="76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179080" y="3382920"/>
                <a:ext cx="2346120" cy="767160"/>
                <a:chOff x="2179080" y="3382920"/>
                <a:chExt cx="2346120" cy="767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82040" y="3382920"/>
                  <a:ext cx="2139120" cy="76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乘法运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179080" y="3382920"/>
                  <a:ext cx="2346120" cy="76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525920" y="3382920"/>
                <a:ext cx="2259360" cy="767160"/>
                <a:chOff x="4525920" y="3382920"/>
                <a:chExt cx="2259360" cy="767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628880" y="3382920"/>
                  <a:ext cx="2052360" cy="76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525920" y="3382920"/>
                  <a:ext cx="2259360" cy="76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785640" y="3382920"/>
                <a:ext cx="2045160" cy="767160"/>
                <a:chOff x="6785640" y="3382920"/>
                <a:chExt cx="2045160" cy="767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889320" y="3382920"/>
                  <a:ext cx="1837440" cy="76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785640" y="3382920"/>
                  <a:ext cx="2045160" cy="76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11760" y="4150800"/>
                <a:ext cx="1866960" cy="766800"/>
                <a:chOff x="311760" y="4150800"/>
                <a:chExt cx="1866960" cy="766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15440" y="4150800"/>
                  <a:ext cx="165924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/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1760" y="4150800"/>
                  <a:ext cx="1866960" cy="76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179080" y="4150800"/>
                <a:ext cx="2346120" cy="766800"/>
                <a:chOff x="2179080" y="4150800"/>
                <a:chExt cx="2346120" cy="766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82040" y="4150800"/>
                  <a:ext cx="213912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除法运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179080" y="4150800"/>
                  <a:ext cx="2346120" cy="76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525920" y="4150800"/>
                <a:ext cx="2259360" cy="766800"/>
                <a:chOff x="4525920" y="4150800"/>
                <a:chExt cx="2259360" cy="7668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628880" y="4150800"/>
                  <a:ext cx="205236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525920" y="4150800"/>
                  <a:ext cx="2259360" cy="76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785640" y="4150800"/>
                <a:ext cx="2045160" cy="766800"/>
                <a:chOff x="6785640" y="4150800"/>
                <a:chExt cx="2045160" cy="7668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889320" y="4150800"/>
                  <a:ext cx="183744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85640" y="4150800"/>
                  <a:ext cx="2045160" cy="76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11760" y="4918320"/>
                <a:ext cx="1866960" cy="623520"/>
                <a:chOff x="311760" y="4918320"/>
                <a:chExt cx="1866960" cy="6235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5440" y="4918320"/>
                  <a:ext cx="165924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i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11760" y="4918320"/>
                  <a:ext cx="1866960" cy="62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179080" y="4918320"/>
                <a:ext cx="2346120" cy="623520"/>
                <a:chOff x="2179080" y="4918320"/>
                <a:chExt cx="2346120" cy="623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282040" y="4918320"/>
                  <a:ext cx="213912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整型除法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79080" y="4918320"/>
                  <a:ext cx="2346120" cy="62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525920" y="4918320"/>
                <a:ext cx="2259360" cy="623520"/>
                <a:chOff x="4525920" y="4918320"/>
                <a:chExt cx="2259360" cy="6235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628880" y="4918320"/>
                  <a:ext cx="205236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25920" y="4918320"/>
                  <a:ext cx="2259360" cy="62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85640" y="4918320"/>
                <a:ext cx="2045160" cy="623520"/>
                <a:chOff x="6785640" y="4918320"/>
                <a:chExt cx="2045160" cy="6235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889320" y="4918320"/>
                  <a:ext cx="183744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85640" y="4918320"/>
                  <a:ext cx="2045160" cy="62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11760" y="5542200"/>
                <a:ext cx="1866960" cy="623880"/>
                <a:chOff x="311760" y="5542200"/>
                <a:chExt cx="1866960" cy="623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5440" y="5542200"/>
                  <a:ext cx="1659240" cy="62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o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1760" y="5542200"/>
                  <a:ext cx="1866960" cy="62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179080" y="5542200"/>
                <a:ext cx="2346120" cy="623880"/>
                <a:chOff x="2179080" y="5542200"/>
                <a:chExt cx="2346120" cy="6238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282040" y="5542200"/>
                  <a:ext cx="2139120" cy="62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计算余数（取模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179080" y="5542200"/>
                  <a:ext cx="2346120" cy="62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525920" y="5542200"/>
                <a:ext cx="2259360" cy="623880"/>
                <a:chOff x="4525920" y="5542200"/>
                <a:chExt cx="2259360" cy="623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628880" y="5542200"/>
                  <a:ext cx="2052360" cy="62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25920" y="5542200"/>
                  <a:ext cx="2259360" cy="62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785640" y="5542200"/>
                <a:ext cx="2045160" cy="623880"/>
                <a:chOff x="6785640" y="5542200"/>
                <a:chExt cx="2045160" cy="6238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889320" y="5542200"/>
                  <a:ext cx="1837440" cy="62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85640" y="5542200"/>
                  <a:ext cx="2045160" cy="62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304920" y="1219320"/>
              <a:ext cx="8533800" cy="4952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819520" y="380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-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元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81080" y="1295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-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元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80880" y="2362320"/>
            <a:ext cx="8534160" cy="3047400"/>
            <a:chOff x="380880" y="2362320"/>
            <a:chExt cx="8534160" cy="3047400"/>
          </a:xfrm>
        </p:grpSpPr>
        <p:grpSp>
          <p:nvGrpSpPr>
            <p:cNvPr id="167" name=""/>
            <p:cNvGrpSpPr/>
            <p:nvPr/>
          </p:nvGrpSpPr>
          <p:grpSpPr>
            <a:xfrm>
              <a:off x="387720" y="2369160"/>
              <a:ext cx="8519040" cy="3032640"/>
              <a:chOff x="387720" y="2369160"/>
              <a:chExt cx="8519040" cy="30326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387720" y="2369160"/>
                <a:ext cx="1953360" cy="876240"/>
                <a:chOff x="387720" y="2369160"/>
                <a:chExt cx="1953360" cy="876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91400" y="2369160"/>
                  <a:ext cx="17463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符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87720" y="2369160"/>
                  <a:ext cx="19533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1440" y="2369160"/>
                <a:ext cx="2259720" cy="876240"/>
                <a:chOff x="2341440" y="2369160"/>
                <a:chExt cx="2259720" cy="876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45120" y="2369160"/>
                  <a:ext cx="205200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1440" y="2369160"/>
                  <a:ext cx="225972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601880" y="2369160"/>
                <a:ext cx="2259360" cy="876240"/>
                <a:chOff x="4601880" y="2369160"/>
                <a:chExt cx="2259360" cy="876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704840" y="2369160"/>
                  <a:ext cx="20523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数类型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601880" y="2369160"/>
                  <a:ext cx="22593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861600" y="2369160"/>
                <a:ext cx="2045160" cy="876240"/>
                <a:chOff x="6861600" y="2369160"/>
                <a:chExt cx="2045160" cy="876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965280" y="2369160"/>
                  <a:ext cx="183744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结果类型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861600" y="2369160"/>
                  <a:ext cx="20451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87720" y="3245760"/>
                <a:ext cx="1953360" cy="1078200"/>
                <a:chOff x="387720" y="3245760"/>
                <a:chExt cx="1953360" cy="1078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91400" y="3245760"/>
                  <a:ext cx="1746360" cy="107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+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87720" y="3245760"/>
                  <a:ext cx="1953360" cy="107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341440" y="3245760"/>
                <a:ext cx="2259720" cy="1078200"/>
                <a:chOff x="2341440" y="3245760"/>
                <a:chExt cx="2259720" cy="10782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45120" y="3245760"/>
                  <a:ext cx="2052000" cy="107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同号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41440" y="3245760"/>
                  <a:ext cx="2259720" cy="107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601880" y="3245760"/>
                <a:ext cx="2259360" cy="1078200"/>
                <a:chOff x="4601880" y="3245760"/>
                <a:chExt cx="2259360" cy="1078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704840" y="3245760"/>
                  <a:ext cx="2052360" cy="107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601880" y="3245760"/>
                  <a:ext cx="2259360" cy="107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861600" y="3245760"/>
                <a:ext cx="2045160" cy="1078200"/>
                <a:chOff x="6861600" y="3245760"/>
                <a:chExt cx="2045160" cy="1078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965280" y="3245760"/>
                  <a:ext cx="1837440" cy="107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861600" y="3245760"/>
                  <a:ext cx="2045160" cy="107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87720" y="4324320"/>
                <a:ext cx="1953360" cy="1077480"/>
                <a:chOff x="387720" y="4324320"/>
                <a:chExt cx="1953360" cy="10774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91400" y="4324320"/>
                  <a:ext cx="1746360" cy="107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-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87720" y="4324320"/>
                  <a:ext cx="195336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341440" y="4324320"/>
                <a:ext cx="2259720" cy="1077480"/>
                <a:chOff x="2341440" y="4324320"/>
                <a:chExt cx="2259720" cy="10774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445120" y="4324320"/>
                  <a:ext cx="2052000" cy="107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取负值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341440" y="4324320"/>
                  <a:ext cx="225972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601880" y="4324320"/>
                <a:ext cx="2259360" cy="1077480"/>
                <a:chOff x="4601880" y="4324320"/>
                <a:chExt cx="2259360" cy="10774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704840" y="4324320"/>
                  <a:ext cx="2052360" cy="107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01880" y="4324320"/>
                  <a:ext cx="225936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861600" y="4324320"/>
                <a:ext cx="2045160" cy="1077480"/>
                <a:chOff x="6861600" y="4324320"/>
                <a:chExt cx="2045160" cy="1077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965280" y="4324320"/>
                  <a:ext cx="1837440" cy="107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eal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861600" y="4324320"/>
                  <a:ext cx="204516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0880" y="2362320"/>
              <a:ext cx="8534160" cy="3047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4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运算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2819520"/>
            <a:ext cx="7086600" cy="6058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运算符实际上可分为两类：逻辑运算符和布尔运算符。（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-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-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80880" y="1219320"/>
            <a:ext cx="8381880" cy="5181120"/>
            <a:chOff x="380880" y="1219320"/>
            <a:chExt cx="8381880" cy="5181120"/>
          </a:xfrm>
        </p:grpSpPr>
        <p:grpSp>
          <p:nvGrpSpPr>
            <p:cNvPr id="209" name=""/>
            <p:cNvGrpSpPr/>
            <p:nvPr/>
          </p:nvGrpSpPr>
          <p:grpSpPr>
            <a:xfrm>
              <a:off x="387720" y="1225080"/>
              <a:ext cx="8366760" cy="5168880"/>
              <a:chOff x="387720" y="1225080"/>
              <a:chExt cx="8366760" cy="51688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87720" y="1225080"/>
                <a:ext cx="1537560" cy="738000"/>
                <a:chOff x="387720" y="1225080"/>
                <a:chExt cx="1537560" cy="7380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89600" y="1225080"/>
                  <a:ext cx="133416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87720" y="1225080"/>
                  <a:ext cx="153756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925640" y="1225080"/>
                <a:ext cx="2600640" cy="738000"/>
                <a:chOff x="1925640" y="1225080"/>
                <a:chExt cx="2600640" cy="738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027520" y="1225080"/>
                  <a:ext cx="23968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925640" y="1225080"/>
                  <a:ext cx="26006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526640" y="1225080"/>
                <a:ext cx="2219040" cy="738000"/>
                <a:chOff x="4526640" y="1225080"/>
                <a:chExt cx="2219040" cy="7380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627800" y="1225080"/>
                  <a:ext cx="201564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数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26640" y="1225080"/>
                  <a:ext cx="22190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746040" y="1225080"/>
                <a:ext cx="2008440" cy="738000"/>
                <a:chOff x="6746040" y="1225080"/>
                <a:chExt cx="2008440" cy="7380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847920" y="1225080"/>
                  <a:ext cx="18046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结果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46040" y="1225080"/>
                  <a:ext cx="20084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87720" y="1963440"/>
                <a:ext cx="1537560" cy="738000"/>
                <a:chOff x="387720" y="1963440"/>
                <a:chExt cx="1537560" cy="7380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89600" y="1963440"/>
                  <a:ext cx="133416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87720" y="1963440"/>
                  <a:ext cx="153756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925640" y="1963440"/>
                <a:ext cx="2600640" cy="738000"/>
                <a:chOff x="1925640" y="1963440"/>
                <a:chExt cx="2600640" cy="7380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027520" y="1963440"/>
                  <a:ext cx="23968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按位‘非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925640" y="1963440"/>
                  <a:ext cx="26006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526640" y="1963440"/>
                <a:ext cx="2219040" cy="738000"/>
                <a:chOff x="4526640" y="1963440"/>
                <a:chExt cx="2219040" cy="73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627800" y="1963440"/>
                  <a:ext cx="201564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526640" y="1963440"/>
                  <a:ext cx="22190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746040" y="1963440"/>
                <a:ext cx="2008440" cy="738000"/>
                <a:chOff x="6746040" y="1963440"/>
                <a:chExt cx="2008440" cy="738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847920" y="1963440"/>
                  <a:ext cx="18046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746040" y="1963440"/>
                  <a:ext cx="20084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87720" y="2701800"/>
                <a:ext cx="1537560" cy="738360"/>
                <a:chOff x="387720" y="2701800"/>
                <a:chExt cx="1537560" cy="738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89600" y="2701800"/>
                  <a:ext cx="133416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87720" y="2701800"/>
                  <a:ext cx="153756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925640" y="2701800"/>
                <a:ext cx="2600640" cy="738360"/>
                <a:chOff x="1925640" y="2701800"/>
                <a:chExt cx="2600640" cy="7383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027520" y="2701800"/>
                  <a:ext cx="239688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按位‘与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925640" y="2701800"/>
                  <a:ext cx="260064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526640" y="2701800"/>
                <a:ext cx="2219040" cy="738360"/>
                <a:chOff x="4526640" y="2701800"/>
                <a:chExt cx="2219040" cy="7383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627800" y="2701800"/>
                  <a:ext cx="201564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526640" y="2701800"/>
                  <a:ext cx="221904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746040" y="2701800"/>
                <a:ext cx="2008440" cy="738360"/>
                <a:chOff x="6746040" y="2701800"/>
                <a:chExt cx="2008440" cy="7383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847920" y="2701800"/>
                  <a:ext cx="180468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746040" y="2701800"/>
                  <a:ext cx="200844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87720" y="3440520"/>
                <a:ext cx="1537560" cy="738000"/>
                <a:chOff x="387720" y="3440520"/>
                <a:chExt cx="1537560" cy="738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89600" y="3440520"/>
                  <a:ext cx="133416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87720" y="3440520"/>
                  <a:ext cx="153756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1925640" y="3440520"/>
                <a:ext cx="2600640" cy="738000"/>
                <a:chOff x="1925640" y="3440520"/>
                <a:chExt cx="2600640" cy="738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027520" y="3440520"/>
                  <a:ext cx="23968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按位‘或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925640" y="3440520"/>
                  <a:ext cx="26006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526640" y="3440520"/>
                <a:ext cx="2219040" cy="738000"/>
                <a:chOff x="4526640" y="3440520"/>
                <a:chExt cx="2219040" cy="7380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627800" y="3440520"/>
                  <a:ext cx="201564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526640" y="3440520"/>
                  <a:ext cx="22190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746040" y="3440520"/>
                <a:ext cx="2008440" cy="738000"/>
                <a:chOff x="6746040" y="3440520"/>
                <a:chExt cx="2008440" cy="7380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847920" y="3440520"/>
                  <a:ext cx="18046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746040" y="3440520"/>
                  <a:ext cx="20084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87720" y="4178880"/>
                <a:ext cx="1537560" cy="738000"/>
                <a:chOff x="387720" y="4178880"/>
                <a:chExt cx="1537560" cy="7380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89600" y="4178880"/>
                  <a:ext cx="133416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87720" y="4178880"/>
                  <a:ext cx="153756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925640" y="4178880"/>
                <a:ext cx="2600640" cy="738000"/>
                <a:chOff x="1925640" y="4178880"/>
                <a:chExt cx="2600640" cy="7380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27520" y="4178880"/>
                  <a:ext cx="23968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按位‘异或’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925640" y="4178880"/>
                  <a:ext cx="26006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526640" y="4178880"/>
                <a:ext cx="2219040" cy="738000"/>
                <a:chOff x="4526640" y="4178880"/>
                <a:chExt cx="2219040" cy="7380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627800" y="4178880"/>
                  <a:ext cx="201564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526640" y="4178880"/>
                  <a:ext cx="22190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746040" y="4178880"/>
                <a:ext cx="2008440" cy="738000"/>
                <a:chOff x="6746040" y="4178880"/>
                <a:chExt cx="2008440" cy="7380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847920" y="4178880"/>
                  <a:ext cx="18046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746040" y="4178880"/>
                  <a:ext cx="20084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87720" y="4917240"/>
                <a:ext cx="1537560" cy="738000"/>
                <a:chOff x="387720" y="4917240"/>
                <a:chExt cx="1537560" cy="7380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89600" y="4917240"/>
                  <a:ext cx="133416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h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87720" y="4917240"/>
                  <a:ext cx="153756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1925640" y="4917240"/>
                <a:ext cx="2600640" cy="738000"/>
                <a:chOff x="1925640" y="4917240"/>
                <a:chExt cx="2600640" cy="738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027520" y="4917240"/>
                  <a:ext cx="23968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按位左移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925640" y="4917240"/>
                  <a:ext cx="26006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526640" y="4917240"/>
                <a:ext cx="2219040" cy="738000"/>
                <a:chOff x="4526640" y="4917240"/>
                <a:chExt cx="2219040" cy="7380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627800" y="4917240"/>
                  <a:ext cx="201564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26640" y="4917240"/>
                  <a:ext cx="22190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746040" y="4917240"/>
                <a:ext cx="2008440" cy="738000"/>
                <a:chOff x="6746040" y="4917240"/>
                <a:chExt cx="2008440" cy="7380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847920" y="4917240"/>
                  <a:ext cx="1804680" cy="73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746040" y="4917240"/>
                  <a:ext cx="2008440" cy="73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87720" y="5655600"/>
                <a:ext cx="1537560" cy="738360"/>
                <a:chOff x="387720" y="5655600"/>
                <a:chExt cx="1537560" cy="738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89600" y="5655600"/>
                  <a:ext cx="133416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h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7720" y="5655600"/>
                  <a:ext cx="153756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925640" y="5655600"/>
                <a:ext cx="2600640" cy="738360"/>
                <a:chOff x="1925640" y="5655600"/>
                <a:chExt cx="2600640" cy="7383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027520" y="5655600"/>
                  <a:ext cx="239688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按位右移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925640" y="5655600"/>
                  <a:ext cx="260064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526640" y="5655600"/>
                <a:ext cx="2219040" cy="738360"/>
                <a:chOff x="4526640" y="5655600"/>
                <a:chExt cx="2219040" cy="7383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627800" y="5655600"/>
                  <a:ext cx="201564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526640" y="5655600"/>
                  <a:ext cx="221904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746040" y="5655600"/>
                <a:ext cx="2008440" cy="738360"/>
                <a:chOff x="6746040" y="5655600"/>
                <a:chExt cx="2008440" cy="7383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847920" y="5655600"/>
                  <a:ext cx="180468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46040" y="5655600"/>
                  <a:ext cx="200844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80880" y="1219320"/>
              <a:ext cx="8381880" cy="5181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362320" y="457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-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逻辑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62320" y="838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-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布尔运算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57200" y="1828800"/>
            <a:ext cx="8381520" cy="3733560"/>
            <a:chOff x="457200" y="1828800"/>
            <a:chExt cx="8381520" cy="3733560"/>
          </a:xfrm>
        </p:grpSpPr>
        <p:grpSp>
          <p:nvGrpSpPr>
            <p:cNvPr id="298" name=""/>
            <p:cNvGrpSpPr/>
            <p:nvPr/>
          </p:nvGrpSpPr>
          <p:grpSpPr>
            <a:xfrm>
              <a:off x="464040" y="1834560"/>
              <a:ext cx="8367120" cy="3721320"/>
              <a:chOff x="464040" y="1834560"/>
              <a:chExt cx="8367120" cy="372132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464040" y="1834560"/>
                <a:ext cx="1994040" cy="743760"/>
                <a:chOff x="464040" y="1834560"/>
                <a:chExt cx="1994040" cy="7437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64480" y="1834560"/>
                  <a:ext cx="179316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64040" y="1834560"/>
                  <a:ext cx="19940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458440" y="1834560"/>
                <a:ext cx="2193480" cy="743760"/>
                <a:chOff x="2458440" y="1834560"/>
                <a:chExt cx="2193480" cy="7437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558880" y="1834560"/>
                  <a:ext cx="199188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458440" y="1834560"/>
                  <a:ext cx="219348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652640" y="1834560"/>
                <a:ext cx="2192760" cy="743760"/>
                <a:chOff x="4652640" y="1834560"/>
                <a:chExt cx="2192760" cy="7437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752720" y="1834560"/>
                  <a:ext cx="19922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数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652640" y="1834560"/>
                  <a:ext cx="219276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846120" y="1834560"/>
                <a:ext cx="1985040" cy="743760"/>
                <a:chOff x="6846120" y="1834560"/>
                <a:chExt cx="1985040" cy="7437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946560" y="1834560"/>
                  <a:ext cx="17834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结果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846120" y="1834560"/>
                  <a:ext cx="19850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64040" y="2578680"/>
                <a:ext cx="1994040" cy="743760"/>
                <a:chOff x="464040" y="2578680"/>
                <a:chExt cx="1994040" cy="7437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64480" y="2578680"/>
                  <a:ext cx="179316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64040" y="2578680"/>
                  <a:ext cx="19940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458440" y="2578680"/>
                <a:ext cx="2193480" cy="743760"/>
                <a:chOff x="2458440" y="2578680"/>
                <a:chExt cx="2193480" cy="7437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558880" y="2578680"/>
                  <a:ext cx="199188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真假值反向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458440" y="2578680"/>
                  <a:ext cx="219348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652640" y="2578680"/>
                <a:ext cx="2192760" cy="743760"/>
                <a:chOff x="4652640" y="2578680"/>
                <a:chExt cx="2192760" cy="7437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752720" y="2578680"/>
                  <a:ext cx="19922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652640" y="2578680"/>
                  <a:ext cx="219276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846120" y="2578680"/>
                <a:ext cx="1985040" cy="743760"/>
                <a:chOff x="6846120" y="2578680"/>
                <a:chExt cx="1985040" cy="7437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46560" y="2578680"/>
                  <a:ext cx="17834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846120" y="2578680"/>
                  <a:ext cx="19850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64040" y="3322800"/>
                <a:ext cx="1994040" cy="744120"/>
                <a:chOff x="464040" y="3322800"/>
                <a:chExt cx="1994040" cy="744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64480" y="3322800"/>
                  <a:ext cx="1793160" cy="7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64040" y="3322800"/>
                  <a:ext cx="1994040" cy="7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2458440" y="3322800"/>
                <a:ext cx="2193480" cy="744120"/>
                <a:chOff x="2458440" y="3322800"/>
                <a:chExt cx="2193480" cy="744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558880" y="3322800"/>
                  <a:ext cx="1991880" cy="7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逻辑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and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运算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58440" y="3322800"/>
                  <a:ext cx="2193480" cy="7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652640" y="3322800"/>
                <a:ext cx="2192760" cy="744120"/>
                <a:chOff x="4652640" y="3322800"/>
                <a:chExt cx="2192760" cy="744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752720" y="3322800"/>
                  <a:ext cx="1992240" cy="7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652640" y="3322800"/>
                  <a:ext cx="2192760" cy="7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846120" y="3322800"/>
                <a:ext cx="1985040" cy="744120"/>
                <a:chOff x="6846120" y="3322800"/>
                <a:chExt cx="1985040" cy="744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946560" y="3322800"/>
                  <a:ext cx="1783440" cy="7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846120" y="3322800"/>
                  <a:ext cx="1985040" cy="7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64040" y="4067640"/>
                <a:ext cx="1994040" cy="743760"/>
                <a:chOff x="464040" y="4067640"/>
                <a:chExt cx="1994040" cy="7437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64480" y="4067640"/>
                  <a:ext cx="179316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64040" y="4067640"/>
                  <a:ext cx="19940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458440" y="4067640"/>
                <a:ext cx="2193480" cy="743760"/>
                <a:chOff x="2458440" y="4067640"/>
                <a:chExt cx="2193480" cy="7437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558880" y="4067640"/>
                  <a:ext cx="199188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逻辑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or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运算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458440" y="4067640"/>
                  <a:ext cx="219348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4652640" y="4067640"/>
                <a:ext cx="2192760" cy="743760"/>
                <a:chOff x="4652640" y="4067640"/>
                <a:chExt cx="2192760" cy="7437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752720" y="4067640"/>
                  <a:ext cx="19922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652640" y="4067640"/>
                  <a:ext cx="219276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846120" y="4067640"/>
                <a:ext cx="1985040" cy="743760"/>
                <a:chOff x="6846120" y="4067640"/>
                <a:chExt cx="1985040" cy="7437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946560" y="4067640"/>
                  <a:ext cx="17834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46120" y="4067640"/>
                  <a:ext cx="19850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64040" y="4812120"/>
                <a:ext cx="1994040" cy="743760"/>
                <a:chOff x="464040" y="4812120"/>
                <a:chExt cx="1994040" cy="7437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64480" y="4812120"/>
                  <a:ext cx="179316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64040" y="4812120"/>
                  <a:ext cx="19940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2458440" y="4812120"/>
                <a:ext cx="2193480" cy="743760"/>
                <a:chOff x="2458440" y="4812120"/>
                <a:chExt cx="2193480" cy="7437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558880" y="4812120"/>
                  <a:ext cx="199188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逻辑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or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运算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458440" y="4812120"/>
                  <a:ext cx="219348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652640" y="4812120"/>
                <a:ext cx="2192760" cy="743760"/>
                <a:chOff x="4652640" y="4812120"/>
                <a:chExt cx="2192760" cy="743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752720" y="4812120"/>
                  <a:ext cx="19922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652640" y="4812120"/>
                  <a:ext cx="219276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846120" y="4812120"/>
                <a:ext cx="1985040" cy="743760"/>
                <a:chOff x="6846120" y="4812120"/>
                <a:chExt cx="1985040" cy="7437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946560" y="4812120"/>
                  <a:ext cx="17834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46120" y="4812120"/>
                  <a:ext cx="19850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9" name=""/>
            <p:cNvSpPr/>
            <p:nvPr/>
          </p:nvSpPr>
          <p:spPr>
            <a:xfrm>
              <a:off x="457200" y="1828800"/>
              <a:ext cx="838152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4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关系运算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447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-6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关系运算符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28600" y="2438280"/>
            <a:ext cx="8686440" cy="3276360"/>
            <a:chOff x="228600" y="2438280"/>
            <a:chExt cx="8686440" cy="3276360"/>
          </a:xfrm>
        </p:grpSpPr>
        <p:grpSp>
          <p:nvGrpSpPr>
            <p:cNvPr id="364" name=""/>
            <p:cNvGrpSpPr/>
            <p:nvPr/>
          </p:nvGrpSpPr>
          <p:grpSpPr>
            <a:xfrm>
              <a:off x="235440" y="2444400"/>
              <a:ext cx="8671320" cy="3262320"/>
              <a:chOff x="235440" y="2444400"/>
              <a:chExt cx="8671320" cy="326232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235440" y="2444400"/>
                <a:ext cx="1112760" cy="815040"/>
                <a:chOff x="235440" y="2444400"/>
                <a:chExt cx="1112760" cy="8150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38760" y="2444400"/>
                  <a:ext cx="90612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35440" y="2444400"/>
                  <a:ext cx="111276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348560" y="2444400"/>
                <a:ext cx="1444320" cy="815040"/>
                <a:chOff x="1348560" y="2444400"/>
                <a:chExt cx="1444320" cy="8150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451880" y="2444400"/>
                  <a:ext cx="123768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348560" y="2444400"/>
                  <a:ext cx="144432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2793240" y="2444400"/>
                <a:ext cx="4352040" cy="815040"/>
                <a:chOff x="2793240" y="2444400"/>
                <a:chExt cx="4352040" cy="8150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895840" y="2444400"/>
                  <a:ext cx="414576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数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793240" y="2444400"/>
                  <a:ext cx="435204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7146000" y="2444400"/>
                <a:ext cx="1760760" cy="815040"/>
                <a:chOff x="7146000" y="2444400"/>
                <a:chExt cx="1760760" cy="8150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7249320" y="2444400"/>
                  <a:ext cx="155412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结果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146000" y="2444400"/>
                  <a:ext cx="176076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35440" y="3259800"/>
                <a:ext cx="1112760" cy="815040"/>
                <a:chOff x="235440" y="3259800"/>
                <a:chExt cx="1112760" cy="8150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38760" y="3259800"/>
                  <a:ext cx="90612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35440" y="3259800"/>
                  <a:ext cx="111276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348560" y="3259800"/>
                <a:ext cx="1444320" cy="815040"/>
                <a:chOff x="1348560" y="3259800"/>
                <a:chExt cx="1444320" cy="8150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451880" y="3259800"/>
                  <a:ext cx="123768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等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48560" y="3259800"/>
                  <a:ext cx="144432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793240" y="3259800"/>
                <a:ext cx="4352040" cy="815040"/>
                <a:chOff x="2793240" y="3259800"/>
                <a:chExt cx="4352040" cy="8150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895840" y="3259800"/>
                  <a:ext cx="414576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兼容的简单类型、类类型、集合类型、字符串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793240" y="3259800"/>
                  <a:ext cx="435204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146000" y="3259800"/>
                <a:ext cx="1760760" cy="815040"/>
                <a:chOff x="7146000" y="3259800"/>
                <a:chExt cx="1760760" cy="8150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249320" y="3259800"/>
                  <a:ext cx="155412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146000" y="3259800"/>
                  <a:ext cx="176076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235440" y="4075560"/>
                <a:ext cx="1112760" cy="815760"/>
                <a:chOff x="235440" y="4075560"/>
                <a:chExt cx="1112760" cy="815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338760" y="4075560"/>
                  <a:ext cx="90612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lt;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35440" y="4075560"/>
                  <a:ext cx="111276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1348560" y="4075560"/>
                <a:ext cx="1444320" cy="815760"/>
                <a:chOff x="1348560" y="4075560"/>
                <a:chExt cx="1444320" cy="815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451880" y="4075560"/>
                  <a:ext cx="123768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不等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348560" y="4075560"/>
                  <a:ext cx="144432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793240" y="4075560"/>
                <a:ext cx="4352040" cy="815760"/>
                <a:chOff x="2793240" y="4075560"/>
                <a:chExt cx="4352040" cy="815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895840" y="4075560"/>
                  <a:ext cx="414576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兼容的简单类型、类类型、集合类型、字符串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793240" y="4075560"/>
                  <a:ext cx="435204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146000" y="4075560"/>
                <a:ext cx="1760760" cy="815760"/>
                <a:chOff x="7146000" y="4075560"/>
                <a:chExt cx="1760760" cy="815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249320" y="4075560"/>
                  <a:ext cx="155412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146000" y="4075560"/>
                  <a:ext cx="176076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35440" y="4891680"/>
                <a:ext cx="1112760" cy="815040"/>
                <a:chOff x="235440" y="4891680"/>
                <a:chExt cx="1112760" cy="8150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38760" y="4891680"/>
                  <a:ext cx="90612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l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35440" y="4891680"/>
                  <a:ext cx="111276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1348560" y="4891680"/>
                <a:ext cx="1444320" cy="815040"/>
                <a:chOff x="1348560" y="4891680"/>
                <a:chExt cx="1444320" cy="8150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451880" y="4891680"/>
                  <a:ext cx="123768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小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348560" y="4891680"/>
                  <a:ext cx="144432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2793240" y="4891680"/>
                <a:ext cx="4352040" cy="815040"/>
                <a:chOff x="2793240" y="4891680"/>
                <a:chExt cx="4352040" cy="8150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2895840" y="4891680"/>
                  <a:ext cx="414576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兼容的简单类型、字符串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93240" y="4891680"/>
                  <a:ext cx="435204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146000" y="4891680"/>
                <a:ext cx="1760760" cy="815040"/>
                <a:chOff x="7146000" y="4891680"/>
                <a:chExt cx="1760760" cy="8150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249320" y="4891680"/>
                  <a:ext cx="155412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146000" y="4891680"/>
                  <a:ext cx="1760760" cy="81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228600" y="2438280"/>
              <a:ext cx="8686440" cy="3276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要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常量与变量的定义和使用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类型的概念与使用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运算符的概念与使用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Object Pascal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语言的语句、过程和函数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457200" y="1371600"/>
            <a:ext cx="8381520" cy="4647960"/>
            <a:chOff x="457200" y="1371600"/>
            <a:chExt cx="8381520" cy="4647960"/>
          </a:xfrm>
        </p:grpSpPr>
        <p:grpSp>
          <p:nvGrpSpPr>
            <p:cNvPr id="415" name=""/>
            <p:cNvGrpSpPr/>
            <p:nvPr/>
          </p:nvGrpSpPr>
          <p:grpSpPr>
            <a:xfrm>
              <a:off x="463680" y="1377360"/>
              <a:ext cx="8367120" cy="4634280"/>
              <a:chOff x="463680" y="1377360"/>
              <a:chExt cx="8367120" cy="4634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463680" y="1377360"/>
                <a:ext cx="1073880" cy="771840"/>
                <a:chOff x="463680" y="1377360"/>
                <a:chExt cx="1073880" cy="771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63400" y="1377360"/>
                  <a:ext cx="87444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gt;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3680" y="1377360"/>
                  <a:ext cx="107388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7920" y="1377360"/>
                <a:ext cx="1393560" cy="771840"/>
                <a:chOff x="1537920" y="1377360"/>
                <a:chExt cx="1393560" cy="771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637640" y="1377360"/>
                  <a:ext cx="11941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大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7920" y="1377360"/>
                  <a:ext cx="139356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931840" y="1377360"/>
                <a:ext cx="4199400" cy="771840"/>
                <a:chOff x="2931840" y="1377360"/>
                <a:chExt cx="4199400" cy="771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030840" y="1377360"/>
                  <a:ext cx="40003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兼容的简单类型、字符串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931840" y="1377360"/>
                  <a:ext cx="41994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7131600" y="1377360"/>
                <a:ext cx="1699200" cy="771840"/>
                <a:chOff x="7131600" y="1377360"/>
                <a:chExt cx="1699200" cy="771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231320" y="1377360"/>
                  <a:ext cx="149976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131600" y="1377360"/>
                  <a:ext cx="16992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63680" y="2149560"/>
                <a:ext cx="1073880" cy="771840"/>
                <a:chOff x="463680" y="2149560"/>
                <a:chExt cx="1073880" cy="771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63400" y="2149560"/>
                  <a:ext cx="87444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lt;=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63680" y="2149560"/>
                  <a:ext cx="107388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537920" y="2149560"/>
                <a:ext cx="1393560" cy="771840"/>
                <a:chOff x="1537920" y="2149560"/>
                <a:chExt cx="1393560" cy="7718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1637640" y="2149560"/>
                  <a:ext cx="11941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小于或等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537920" y="2149560"/>
                  <a:ext cx="139356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931840" y="2149560"/>
                <a:ext cx="4199400" cy="771840"/>
                <a:chOff x="2931840" y="2149560"/>
                <a:chExt cx="4199400" cy="7718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030840" y="2149560"/>
                  <a:ext cx="40003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兼容的简单类型、字符串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1840" y="2149560"/>
                  <a:ext cx="41994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131600" y="2149560"/>
                <a:ext cx="1699200" cy="771840"/>
                <a:chOff x="7131600" y="2149560"/>
                <a:chExt cx="1699200" cy="7718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7231320" y="2149560"/>
                  <a:ext cx="149976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131600" y="2149560"/>
                  <a:ext cx="16992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463680" y="2922120"/>
                <a:ext cx="1073880" cy="772560"/>
                <a:chOff x="463680" y="2922120"/>
                <a:chExt cx="1073880" cy="7725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63400" y="2922120"/>
                  <a:ext cx="874440" cy="77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gt;=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63680" y="2922120"/>
                  <a:ext cx="1073880" cy="77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1537920" y="2922120"/>
                <a:ext cx="1393560" cy="772560"/>
                <a:chOff x="1537920" y="2922120"/>
                <a:chExt cx="1393560" cy="772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637640" y="2922120"/>
                  <a:ext cx="1194120" cy="77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大于或等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537920" y="2922120"/>
                  <a:ext cx="1393560" cy="77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2931840" y="2922120"/>
                <a:ext cx="4199400" cy="772560"/>
                <a:chOff x="2931840" y="2922120"/>
                <a:chExt cx="4199400" cy="772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3030840" y="2922120"/>
                  <a:ext cx="4000320" cy="77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兼容的简单类型、字符串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931840" y="2922120"/>
                  <a:ext cx="4199400" cy="77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131600" y="2922120"/>
                <a:ext cx="1699200" cy="772560"/>
                <a:chOff x="7131600" y="2922120"/>
                <a:chExt cx="1699200" cy="7725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231320" y="2922120"/>
                  <a:ext cx="1499760" cy="77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131600" y="2922120"/>
                  <a:ext cx="1699200" cy="772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463680" y="3695040"/>
                <a:ext cx="1073880" cy="771840"/>
                <a:chOff x="463680" y="3695040"/>
                <a:chExt cx="1073880" cy="7718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63400" y="3695040"/>
                  <a:ext cx="87444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lt;=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63680" y="3695040"/>
                  <a:ext cx="107388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1537920" y="3695040"/>
                <a:ext cx="1393560" cy="771840"/>
                <a:chOff x="1537920" y="3695040"/>
                <a:chExt cx="1393560" cy="7718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637640" y="3695040"/>
                  <a:ext cx="11941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包含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537920" y="3695040"/>
                  <a:ext cx="139356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931840" y="3695040"/>
                <a:ext cx="4199400" cy="771840"/>
                <a:chOff x="2931840" y="3695040"/>
                <a:chExt cx="4199400" cy="7718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3030840" y="3695040"/>
                  <a:ext cx="40003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兼容的集合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931840" y="3695040"/>
                  <a:ext cx="41994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131600" y="3695040"/>
                <a:ext cx="1699200" cy="771840"/>
                <a:chOff x="7131600" y="3695040"/>
                <a:chExt cx="1699200" cy="77184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231320" y="3695040"/>
                  <a:ext cx="149976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131600" y="3695040"/>
                  <a:ext cx="16992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463680" y="4467600"/>
                <a:ext cx="1073880" cy="771840"/>
                <a:chOff x="463680" y="4467600"/>
                <a:chExt cx="1073880" cy="7718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63400" y="4467600"/>
                  <a:ext cx="87444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gt;=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63680" y="4467600"/>
                  <a:ext cx="107388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1537920" y="4467600"/>
                <a:ext cx="1393560" cy="771840"/>
                <a:chOff x="1537920" y="4467600"/>
                <a:chExt cx="1393560" cy="7718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637640" y="4467600"/>
                  <a:ext cx="11941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包含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537920" y="4467600"/>
                  <a:ext cx="139356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931840" y="4467600"/>
                <a:ext cx="4199400" cy="771840"/>
                <a:chOff x="2931840" y="4467600"/>
                <a:chExt cx="4199400" cy="7718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030840" y="4467600"/>
                  <a:ext cx="40003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兼容的集合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931840" y="4467600"/>
                  <a:ext cx="41994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7131600" y="4467600"/>
                <a:ext cx="1699200" cy="771840"/>
                <a:chOff x="7131600" y="4467600"/>
                <a:chExt cx="1699200" cy="7718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231320" y="4467600"/>
                  <a:ext cx="149976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131600" y="4467600"/>
                  <a:ext cx="16992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63680" y="5239800"/>
                <a:ext cx="1073880" cy="771840"/>
                <a:chOff x="463680" y="5239800"/>
                <a:chExt cx="1073880" cy="7718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563400" y="5239800"/>
                  <a:ext cx="87444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63680" y="5239800"/>
                  <a:ext cx="107388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1537920" y="5239800"/>
                <a:ext cx="1393560" cy="771840"/>
                <a:chOff x="1537920" y="5239800"/>
                <a:chExt cx="1393560" cy="7718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637640" y="5239800"/>
                  <a:ext cx="11941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属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37920" y="5239800"/>
                  <a:ext cx="139356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2931840" y="5239800"/>
                <a:ext cx="4199400" cy="771840"/>
                <a:chOff x="2931840" y="5239800"/>
                <a:chExt cx="4199400" cy="77184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030840" y="5239800"/>
                  <a:ext cx="400032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兼容的集合类型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931840" y="5239800"/>
                  <a:ext cx="41994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131600" y="5239800"/>
                <a:ext cx="1699200" cy="771840"/>
                <a:chOff x="7131600" y="5239800"/>
                <a:chExt cx="1699200" cy="7718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7231320" y="5239800"/>
                  <a:ext cx="149976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131600" y="5239800"/>
                  <a:ext cx="169920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8" name=""/>
            <p:cNvSpPr/>
            <p:nvPr/>
          </p:nvSpPr>
          <p:spPr>
            <a:xfrm>
              <a:off x="457200" y="1371600"/>
              <a:ext cx="838152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666880" y="762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-6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关系运算符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4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运算符的优先级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-7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运算符的优先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04920" y="2438280"/>
            <a:ext cx="8533800" cy="3200040"/>
            <a:chOff x="304920" y="2438280"/>
            <a:chExt cx="8533800" cy="3200040"/>
          </a:xfrm>
        </p:grpSpPr>
        <p:grpSp>
          <p:nvGrpSpPr>
            <p:cNvPr id="494" name=""/>
            <p:cNvGrpSpPr/>
            <p:nvPr/>
          </p:nvGrpSpPr>
          <p:grpSpPr>
            <a:xfrm>
              <a:off x="311760" y="2442960"/>
              <a:ext cx="8518680" cy="3188880"/>
              <a:chOff x="311760" y="2442960"/>
              <a:chExt cx="8518680" cy="318888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311760" y="2442960"/>
                <a:ext cx="4053960" cy="637200"/>
                <a:chOff x="311760" y="2442960"/>
                <a:chExt cx="4053960" cy="637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15440" y="2442960"/>
                  <a:ext cx="384696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运算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11760" y="2442960"/>
                  <a:ext cx="405396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4366080" y="2442960"/>
                <a:ext cx="2029320" cy="637200"/>
                <a:chOff x="4366080" y="2442960"/>
                <a:chExt cx="2029320" cy="637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469760" y="2442960"/>
                  <a:ext cx="18223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优先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366080" y="2442960"/>
                  <a:ext cx="202932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6396120" y="2442960"/>
                <a:ext cx="2434320" cy="637200"/>
                <a:chOff x="6396120" y="2442960"/>
                <a:chExt cx="2434320" cy="637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6499800" y="2442960"/>
                  <a:ext cx="222660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分类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396120" y="2442960"/>
                  <a:ext cx="243432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11760" y="3080520"/>
                <a:ext cx="4053960" cy="637200"/>
                <a:chOff x="311760" y="3080520"/>
                <a:chExt cx="4053960" cy="6372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15440" y="3080520"/>
                  <a:ext cx="384696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1760" y="3080520"/>
                  <a:ext cx="405396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366080" y="3080520"/>
                <a:ext cx="2029320" cy="637200"/>
                <a:chOff x="4366080" y="3080520"/>
                <a:chExt cx="2029320" cy="6372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469760" y="3080520"/>
                  <a:ext cx="18223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（最高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366080" y="3080520"/>
                  <a:ext cx="202932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396120" y="3080520"/>
                <a:ext cx="2434320" cy="637200"/>
                <a:chOff x="6396120" y="3080520"/>
                <a:chExt cx="2434320" cy="6372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499800" y="3080520"/>
                  <a:ext cx="222660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一元运算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396120" y="3080520"/>
                  <a:ext cx="243432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311760" y="3718440"/>
                <a:ext cx="4053960" cy="637920"/>
                <a:chOff x="311760" y="3718440"/>
                <a:chExt cx="4053960" cy="6379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15440" y="3718440"/>
                  <a:ext cx="384696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*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／，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Div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Mod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Shl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Shr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11760" y="3718440"/>
                  <a:ext cx="405396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4366080" y="3718440"/>
                <a:ext cx="2029320" cy="637920"/>
                <a:chOff x="4366080" y="3718440"/>
                <a:chExt cx="2029320" cy="6379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469760" y="3718440"/>
                  <a:ext cx="182232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366080" y="3718440"/>
                  <a:ext cx="202932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6396120" y="3718440"/>
                <a:ext cx="2434320" cy="637920"/>
                <a:chOff x="6396120" y="3718440"/>
                <a:chExt cx="2434320" cy="63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499800" y="3718440"/>
                  <a:ext cx="222660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乘法运算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396120" y="3718440"/>
                  <a:ext cx="2434320" cy="63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11760" y="4356720"/>
                <a:ext cx="4053960" cy="637200"/>
                <a:chOff x="311760" y="4356720"/>
                <a:chExt cx="4053960" cy="6372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15440" y="4356720"/>
                  <a:ext cx="384696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＋，－，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Or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11760" y="4356720"/>
                  <a:ext cx="405396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4366080" y="4356720"/>
                <a:ext cx="2029320" cy="637200"/>
                <a:chOff x="4366080" y="4356720"/>
                <a:chExt cx="2029320" cy="6372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469760" y="4356720"/>
                  <a:ext cx="18223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366080" y="4356720"/>
                  <a:ext cx="202932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396120" y="4356720"/>
                <a:ext cx="2434320" cy="637200"/>
                <a:chOff x="6396120" y="4356720"/>
                <a:chExt cx="2434320" cy="6372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499800" y="4356720"/>
                  <a:ext cx="222660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加法运算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396120" y="4356720"/>
                  <a:ext cx="243432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11760" y="4994640"/>
                <a:ext cx="4053960" cy="637200"/>
                <a:chOff x="311760" y="4994640"/>
                <a:chExt cx="4053960" cy="6372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15440" y="4994640"/>
                  <a:ext cx="384696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&lt;&gt;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&lt;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&gt;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&lt;=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&gt;=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11760" y="4994640"/>
                  <a:ext cx="405396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4366080" y="4994640"/>
                <a:ext cx="2029320" cy="637200"/>
                <a:chOff x="4366080" y="4994640"/>
                <a:chExt cx="2029320" cy="6372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4469760" y="4994640"/>
                  <a:ext cx="18223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366080" y="4994640"/>
                  <a:ext cx="202932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6396120" y="4994640"/>
                <a:ext cx="2434320" cy="637200"/>
                <a:chOff x="6396120" y="4994640"/>
                <a:chExt cx="2434320" cy="6372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499800" y="4994640"/>
                  <a:ext cx="222660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关系运算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396120" y="4994640"/>
                  <a:ext cx="243432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0" name=""/>
            <p:cNvSpPr/>
            <p:nvPr/>
          </p:nvSpPr>
          <p:spPr>
            <a:xfrm>
              <a:off x="304920" y="2438280"/>
              <a:ext cx="8533800" cy="3200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5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66520" y="1980720"/>
            <a:ext cx="352764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.5.1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赋值语句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.5.2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块语句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.5.3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控制语句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5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赋值语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967040"/>
            <a:ext cx="7194600" cy="26892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279360" indent="-279360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下面的例子就是一个最简单的赋值语句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X:=Y+Z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赋值语句的左边是此赋值的数据变量，右边是一个数值或者表达式，中间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=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连接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7" name=""/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5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块语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1749600"/>
            <a:ext cx="7194600" cy="39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块语句是一种把若干简单语句组合成复杂语句的方式。经常使用的块语句是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eg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nd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，下面的例子就是一个简单的块语句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:=5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C:=A*8/2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End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"/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5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语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bject Pascal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使用控制语句来控制程序的执行顺序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是分支语句，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是循环语句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分支语句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、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as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GOTO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、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reak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、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ntinu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、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xit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、  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Halt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循环语句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  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epeat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、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hil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语句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6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与函数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901880" y="1994040"/>
            <a:ext cx="59198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.6.1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过程与函数的定义和调用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.6.2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过程与函数的参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6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与函数的定义和调用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过程与函数的定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每一个过程或函数都从表头开始，表头包含其识别名称及外部传入的参数，过程开始处为保留字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rocedur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Procedure  Name(Const Pet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Integer)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函数与过程不同的地方是，函数有返回值，这样在函数的首部就多了一个返回结果类型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过程与函数的调用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调用过程的语句只是一个独立的语句，而调用函数的语句不是一个独立的语句，它必须要返回一个值，且返回数值数据类型必须与定义相同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MinNumber:=Min(People)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另外也可以将函数调用直接作为操作数。例如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X:=Min(People)+50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指示字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xterna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表示过程或函数是外部的，通常用于从动态连接库中引用过程或函数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ssembl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表示过程或函数是使用嵌入式汇编语言编写的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war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表示过程或函数是向前查找的。该过程或函数的定义必须在后面的某个地方定义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字符和符号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97000" y="1676160"/>
            <a:ext cx="3070080" cy="3429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Object Pascal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字符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特殊字符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标识符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保留字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94120" y="1676160"/>
            <a:ext cx="2820960" cy="3429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指令字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数字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标号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字符串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90360" y="1676520"/>
            <a:ext cx="655308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与调用约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声明函数或过程时，可以在附属块中指定函数过程或函数的参数传递方式。主要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egist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asca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dec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dcal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afecall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等五种传递方式。缺省的调用方式是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egist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"/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6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过程与函数的参数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经常用到的参数主要有以下几种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传值参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传值参数会把外部传入的值作一份拷贝，保存在此参数内，因此在过程内对此参数所作的任何改变，都不会影响外部传入的值。参数前不加任何的保留字，即为传值参数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914040" y="2072880"/>
            <a:ext cx="7194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引用参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通过引用来传递参数时，允许过程或函数改变参数的值。通过引用传递的参数由关键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Var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表示。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040" y="1755360"/>
            <a:ext cx="7194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常量参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过程或函数的运行当中，如果形参的值不变，就可以使用常量来传递参数。与引用传递的参数不同的是，将参数前加上的保留字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ar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改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ns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"/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6600"/>
                </a:solidFill>
                <a:latin typeface="Arial Narrow"/>
                <a:ea typeface="宋体"/>
              </a:rPr>
              <a:t>THANK YOU VERY MUCH </a:t>
            </a:r>
            <a:r>
              <a:rPr b="1" lang="en-US" sz="3900" spc="-1" strike="noStrike">
                <a:solidFill>
                  <a:srgbClr val="006600"/>
                </a:solidFill>
                <a:latin typeface="Arial Narrow"/>
                <a:ea typeface="宋体"/>
              </a:rPr>
              <a:t>！</a:t>
            </a:r>
            <a:endParaRPr b="1" lang="en-US" sz="3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6492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ctr">
              <a:lnSpc>
                <a:spcPct val="120000"/>
              </a:lnSpc>
              <a:spcBef>
                <a:spcPts val="36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Narrow"/>
                <a:ea typeface="宋体"/>
              </a:rPr>
              <a:t>本章到此结束，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ctr">
              <a:lnSpc>
                <a:spcPct val="120000"/>
              </a:lnSpc>
              <a:spcBef>
                <a:spcPts val="36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Narrow"/>
                <a:ea typeface="宋体"/>
              </a:rPr>
              <a:t>谢谢您的光临！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0" name="">
            <a:hlinkClick r:id="" action="ppaction://hlinkshowjump?jump=endshow"/>
          </p:cNvPr>
          <p:cNvSpPr/>
          <p:nvPr/>
        </p:nvSpPr>
        <p:spPr>
          <a:xfrm>
            <a:off x="5562720" y="63828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量与变量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444348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7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1" action="ppaction://hlinksldjump"/>
              </a:rPr>
              <a:t>2.2.1  声明变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7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2" action="ppaction://hlinksldjump"/>
              </a:rPr>
              <a:t>2.2.2  声明常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2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声明变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是程序代码中代表一个内存地址的标识符，而此地址的内存内容在程序代码执行时可以被改变。在所有变量说明以前加上保留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说明左边是变量的名称，右边则是该变量的类型，中间用冒号隔开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另外，在声明变量时注意：一是变量名要符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asca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关于标识符的规则；二是必须指定变量的类型，三是尽量使定义的变量或标识符有意义，以便于记忆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2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声明常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纯常量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是一种预先定义的标识符，其值在定义后永远不会改变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类型常量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用于保存数组、记录、过程以及指针等类型的值。类型常量不能出现在常量表达式中。声明类型常量的语法规则为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Const Identifer:Type=Valu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类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36920" y="1834920"/>
            <a:ext cx="4021200" cy="38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1" action="ppaction://hlinksldjump"/>
              </a:rPr>
              <a:t>2.3.1  简单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2" action="ppaction://hlinksldjump"/>
              </a:rPr>
              <a:t>2.3.2  字符串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3" action="ppaction://hlinksldjump"/>
              </a:rPr>
              <a:t>2.3.3  结构数据类型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 Narrow"/>
                <a:ea typeface="宋体"/>
                <a:hlinkClick r:id="rId4" action="ppaction://hlinksldjump"/>
              </a:rPr>
              <a:t>2.3.4  指针类型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3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类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有序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整数类型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字符类型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布尔类型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-1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所示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枚举型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子界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实数类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包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eal48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ingl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xtende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m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urrenc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通常使用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eal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oubl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型是等价的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3600" y="153720"/>
            <a:ext cx="7505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3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串类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elphi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主要支持两种类型的字符串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hortString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nsiString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hortString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主要是为了能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elphi1.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orland Pascal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早期版本兼容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ring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既可以是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horString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型也可以是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nsiString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型，缺省是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nsiString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型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7315200" y="6382800"/>
            <a:ext cx="14479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8:15Z</dcterms:created>
  <dc:creator>H. James Toland III</dc:creator>
  <dc:description/>
  <dc:language>en-US</dc:language>
  <cp:lastModifiedBy>lcb</cp:lastModifiedBy>
  <dcterms:modified xsi:type="dcterms:W3CDTF">2002-03-30T08:53:29Z</dcterms:modified>
  <cp:revision>44</cp:revision>
  <dc:subject/>
  <dc:title>Introduction</dc:title>
</cp:coreProperties>
</file>